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A77-E469-4BAC-9EB1-94D9B90D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529-DB65-41F1-9F5E-CAC4E16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8F1-D33A-49EC-B609-1625AA19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A06-C5A3-4403-9D3D-A95A47FE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878-C4B5-4F19-A7F6-F075234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A94-EBED-420D-A9D1-A1A01978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464-7565-49E7-93A2-6292F65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2D6-DF3F-42A3-A112-05625A3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CBA-46F9-4500-9862-E60793A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F66-67EF-4ED2-AB77-178839F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B6B-950F-41BC-A39D-C8CED1E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317-74AD-4331-8334-130DD3C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9ad4"/>
            </a:gs>
            <a:gs pos="100000">
              <a:srgbClr val="2f12e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F1F-2F9B-4D1B-B9D7-F1019408D91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I MOTI CONV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materiale che si scalda perché più a contatto con il nucleo, sale verso l’alto e raffreddandosi si appesantisce e forma altra crosta che poi sprofonda di nuovo nel mant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t1.gstatic.com/images?q=tbn:ANd9GcQ4zpWvSLC6CRS65oqzg7Nj0Bamm2VKcCvkisNCc-QWjqGP_kYi"/>
          <p:cNvPicPr/>
          <p:nvPr/>
        </p:nvPicPr>
        <p:blipFill>
          <a:blip r:embed="rId1"/>
          <a:stretch/>
        </p:blipFill>
        <p:spPr>
          <a:xfrm>
            <a:off x="2411280" y="249228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onostante questi movimenti siano lentissimi (si notano spostamenti di pochi cm l’anno), essi hanno delle conseguenze sulla superficie terrestre come faglie, terremoti, vulcani e la formazione di montagne (orogen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oti nucleo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oti convettivi sono quelle correnti di liquido o di gas che permettono al liquido o al gas in questione di raggiungere la stessa temperatura in tutti i suoi pun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ttp://www.weatherquestions.com/convection.gif"/>
          <p:cNvPicPr/>
          <p:nvPr/>
        </p:nvPicPr>
        <p:blipFill>
          <a:blip r:embed="rId1"/>
          <a:stretch/>
        </p:blipFill>
        <p:spPr>
          <a:xfrm>
            <a:off x="324000" y="2997360"/>
            <a:ext cx="3743280" cy="280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t2.gstatic.com/images?q=tbn:ANd9GcTHmDHl5MDc45xtJqZjofYGXepjfCq_aKMM5LZotrVA01xfYhK_oA"/>
          <p:cNvPicPr/>
          <p:nvPr/>
        </p:nvPicPr>
        <p:blipFill>
          <a:blip r:embed="rId2"/>
          <a:stretch/>
        </p:blipFill>
        <p:spPr>
          <a:xfrm>
            <a:off x="4716360" y="2997360"/>
            <a:ext cx="42195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ffff"/>
                </a:solidFill>
                <a:latin typeface="Comic Sans MS"/>
              </a:rPr>
              <a:t>Il moto convettivo dei liqui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Osservando una pentola piena d’acqua sul fuoco possiamo osservarne i moti convettivi. che si creano grazie al </a:t>
            </a: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principio di Archimed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upload.wikimedia.org/wikipedia/commons/6/60/Principio_di_Archimede_galleggiamento.png"/>
          <p:cNvPicPr/>
          <p:nvPr/>
        </p:nvPicPr>
        <p:blipFill>
          <a:blip r:embed="rId1"/>
          <a:stretch/>
        </p:blipFill>
        <p:spPr>
          <a:xfrm>
            <a:off x="826920" y="3573360"/>
            <a:ext cx="3122640" cy="2602080"/>
          </a:xfrm>
          <a:prstGeom prst="rect">
            <a:avLst/>
          </a:prstGeom>
          <a:ln w="0">
            <a:noFill/>
          </a:ln>
        </p:spPr>
      </p:pic>
      <p:sp>
        <p:nvSpPr>
          <p:cNvPr id="48" name="Rettangolo 6"/>
          <p:cNvSpPr/>
          <p:nvPr/>
        </p:nvSpPr>
        <p:spPr>
          <a:xfrm>
            <a:off x="4140360" y="3573360"/>
            <a:ext cx="4572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Un corpo immerso in un fluido riceve una spinta dal basso verso l'alto F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pari al peso F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del volume V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di fluido spostato 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24000" y="47628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In pratica, sottoposte ad un aumento di temperatura le molecole di acqua che si trovano più vicine al fondo metallico della  pentola aumentano la loro velocità, facendo così il liquido si dilata e diventa quindi più legg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2f2f2"/>
                </a:solidFill>
                <a:latin typeface="Comic Sans MS"/>
              </a:rPr>
              <a:t>A questo punto secondo il principio di Archimede, la parte di liquido in questione sale verso l’alto prendendo così il posto dell’acqua fredda che scende a sua volta verso il fondo della pent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ccia circolare in su 4"/>
          <p:cNvSpPr/>
          <p:nvPr/>
        </p:nvSpPr>
        <p:spPr>
          <a:xfrm rot="10800000">
            <a:off x="6443640" y="404280"/>
            <a:ext cx="2232000" cy="2519640"/>
          </a:xfrm>
          <a:custGeom>
            <a:avLst/>
            <a:gdLst>
              <a:gd name="textAreaLeft" fmla="*/ 348480 w 2232000"/>
              <a:gd name="textAreaRight" fmla="*/ 1604160 w 2232000"/>
              <a:gd name="textAreaTop" fmla="*/ 337320 h 2519640"/>
              <a:gd name="textAreaBottom" fmla="*/ 218232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239801"/>
                <a:lnTo>
                  <a:pt x="21432" y="4783"/>
                </a:lnTo>
                <a:lnTo>
                  <a:pt x="16200" y="0"/>
                </a:lnTo>
                <a:lnTo>
                  <a:pt x="10632" y="4783"/>
                </a:lnTo>
                <a:lnTo>
                  <a:pt x="13332" y="4783"/>
                </a:lnTo>
                <a:arcTo wR="6750" hR="21600" stAng="2160199" swAng="2773815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23e5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Freccia circolare in su 5" descr=""/>
          <p:cNvPicPr/>
          <p:nvPr/>
        </p:nvPicPr>
        <p:blipFill>
          <a:blip r:embed="rId1"/>
          <a:stretch/>
        </p:blipFill>
        <p:spPr>
          <a:xfrm>
            <a:off x="6559560" y="3828960"/>
            <a:ext cx="2266920" cy="2578320"/>
          </a:xfrm>
          <a:prstGeom prst="rect">
            <a:avLst/>
          </a:prstGeom>
          <a:ln w="0">
            <a:noFill/>
          </a:ln>
        </p:spPr>
      </p:pic>
      <p:sp>
        <p:nvSpPr>
          <p:cNvPr id="52" name="Freccia circolare in su 6"/>
          <p:cNvSpPr/>
          <p:nvPr/>
        </p:nvSpPr>
        <p:spPr>
          <a:xfrm>
            <a:off x="179280" y="3789360"/>
            <a:ext cx="2232000" cy="2519280"/>
          </a:xfrm>
          <a:custGeom>
            <a:avLst/>
            <a:gdLst>
              <a:gd name="textAreaLeft" fmla="*/ 348480 w 2232000"/>
              <a:gd name="textAreaRight" fmla="*/ 1604160 w 2232000"/>
              <a:gd name="textAreaTop" fmla="*/ 337320 h 2519280"/>
              <a:gd name="textAreaBottom" fmla="*/ 21819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239801"/>
                <a:lnTo>
                  <a:pt x="21432" y="4783"/>
                </a:lnTo>
                <a:lnTo>
                  <a:pt x="16200" y="0"/>
                </a:lnTo>
                <a:lnTo>
                  <a:pt x="10632" y="4783"/>
                </a:lnTo>
                <a:lnTo>
                  <a:pt x="13332" y="4783"/>
                </a:lnTo>
                <a:arcTo wR="6750" hR="21600" stAng="2160199" swAng="2773815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Freccia circolare in su 7" descr=""/>
          <p:cNvPicPr/>
          <p:nvPr/>
        </p:nvPicPr>
        <p:blipFill>
          <a:blip r:embed="rId2"/>
          <a:stretch/>
        </p:blipFill>
        <p:spPr>
          <a:xfrm>
            <a:off x="-12600" y="231840"/>
            <a:ext cx="2268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f2f2"/>
                </a:solidFill>
                <a:latin typeface="Comic Sans MS"/>
              </a:rPr>
              <a:t>Questo spostamento da origine a delle correnti dette moti conv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5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721400" cy="439272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t3.gstatic.com/images?q=tbn:ANd9GcSRorTHg_N9yAtWTUk8tjUCHq6KdYVIrP2PvGDwxZ80e6awJnli"/>
          <p:cNvPicPr/>
          <p:nvPr/>
        </p:nvPicPr>
        <p:blipFill>
          <a:blip r:embed="rId1"/>
          <a:stretch/>
        </p:blipFill>
        <p:spPr>
          <a:xfrm>
            <a:off x="4373640" y="1052640"/>
            <a:ext cx="4770360" cy="320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ff00"/>
                </a:solidFill>
                <a:latin typeface="Arial"/>
              </a:rPr>
              <a:t>Perché i laghi ghiacc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42764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2f2f2"/>
                </a:solidFill>
                <a:latin typeface="Comic Sans MS"/>
              </a:rPr>
              <a:t>Ciò che avviene in un lago d’inverno è simile a ciò che avviene in una pentol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http://us.123rf.com/400wm/400/400/jimtan/jimtan1103/jimtan110300010/9112477-mute-cigni-sul-lago-ghiacciato.jpg"/>
          <p:cNvPicPr/>
          <p:nvPr/>
        </p:nvPicPr>
        <p:blipFill>
          <a:blip r:embed="rId2"/>
          <a:stretch/>
        </p:blipFill>
        <p:spPr>
          <a:xfrm>
            <a:off x="0" y="3716280"/>
            <a:ext cx="431784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4356000" y="465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2f2f2"/>
                </a:solidFill>
                <a:latin typeface="Comic Sans MS"/>
              </a:rPr>
              <a:t>Il movimento è dato dal raffreddamento dell’acqua che sta in superficie rispetto alla temperatura del fo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o strato d’acqua in superficie si raffredda diventando così più denso e scendendo sul fondo fino a quando non raggiunge la temperatura di 4°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Esso rimane fermo galleggiando sulla superficie del lago in quanto è reso meno denso di quelli inferiori dal raffreddamento (tra 0 e 4°C la densità dell’acqua diminuisce) mentre il resto dell’acqua rimane a 4°C. Il ghiaccio che si forma impedisce le perdite di calore del lago e ogni altra perdita di calore va a rendere più spessa la lastra senza conseguenze sugli strati più profondi che restano a 4°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In questo modo le forme di vi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presenti nel lago posso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sopravviv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iii.to.cnr.it/limnol/energia/cinv.gif"/>
          <p:cNvPicPr/>
          <p:nvPr/>
        </p:nvPicPr>
        <p:blipFill>
          <a:blip r:embed="rId1"/>
          <a:stretch/>
        </p:blipFill>
        <p:spPr>
          <a:xfrm>
            <a:off x="4788000" y="3284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http://www.iii.to.cnr.it/limnol/energia/cpima.gif"/>
          <p:cNvPicPr/>
          <p:nvPr/>
        </p:nvPicPr>
        <p:blipFill>
          <a:blip r:embed="rId1"/>
          <a:stretch/>
        </p:blipFill>
        <p:spPr>
          <a:xfrm>
            <a:off x="5003640" y="981000"/>
            <a:ext cx="3889440" cy="388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e acque di un lago della regione temperata, alla fine della stagione invernale, presentano a tutte le profondità una uguale temperatura di circa 4°C. Questa è la temperatura di massima densità dell'acqua. L'azione del vento può facilmente provocare un rimescolamento delle acque più superficiali, a contatto con l'atmosfera e quindi contenenti abbondante ossigeno disciolto, con quelle sottostanti. La </a:t>
            </a: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circolazione primaverile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 che così si instaura ricarica di ossigeno l'intera colonna d'acq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Comic Sans MS"/>
              </a:rPr>
              <a:t>I MOTI CONVETTIVI NELLA T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281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 moti convettivi interessano anche l’interno del nostro pia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columbia.edu/itc/ldeo/v1011x-1/jcm/Topic3/convection_animation.gif"/>
          <p:cNvPicPr/>
          <p:nvPr/>
        </p:nvPicPr>
        <p:blipFill>
          <a:blip r:embed="rId1"/>
          <a:stretch/>
        </p:blipFill>
        <p:spPr>
          <a:xfrm>
            <a:off x="4433760" y="2637000"/>
            <a:ext cx="3942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Rettangolo 7"/>
          <p:cNvSpPr/>
          <p:nvPr/>
        </p:nvSpPr>
        <p:spPr>
          <a:xfrm>
            <a:off x="539640" y="314172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magma, infatti, si trova a contatto sia con il nucleo che arriva alla temperatura di 4000 gradi, sia con la crosta terrestre che è più fred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e correnti convettive che si formano a causa della grande differenza di temperatura tra queste due fonti trascinano il materiale che viene anche chiamato plac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ttp://t3.gstatic.com/images?q=tbn:ANd9GcTO5jyCyUoHSO4lbTVdUFtqbpC4i84q6DcIN73UBjVdiFbndcAs"/>
          <p:cNvPicPr/>
          <p:nvPr/>
        </p:nvPicPr>
        <p:blipFill>
          <a:blip r:embed="rId2"/>
          <a:stretch/>
        </p:blipFill>
        <p:spPr>
          <a:xfrm>
            <a:off x="468360" y="2637000"/>
            <a:ext cx="392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02:53Z</dcterms:created>
  <dc:creator>User</dc:creator>
  <dc:description/>
  <dc:language>en-US</dc:language>
  <cp:lastModifiedBy>Laura Polenta</cp:lastModifiedBy>
  <dcterms:modified xsi:type="dcterms:W3CDTF">2011-05-10T18:48:49Z</dcterms:modified>
  <cp:revision>29</cp:revision>
  <dc:subject/>
  <dc:title>I MOTI CONVETTIVI</dc:title>
</cp:coreProperties>
</file>